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761760" y="3606480"/>
            <a:ext cx="1148076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61760" y="3606480"/>
            <a:ext cx="1148076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761760" y="3606480"/>
            <a:ext cx="1148076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61760" y="3606480"/>
            <a:ext cx="1148076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61760" y="3606480"/>
            <a:ext cx="1148076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61760" y="3606480"/>
            <a:ext cx="1148076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61760" y="3606480"/>
            <a:ext cx="1148076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761760" y="3606480"/>
            <a:ext cx="1148076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3606480"/>
            <a:ext cx="1148076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761760" y="3606480"/>
            <a:ext cx="1148076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761760" y="3606480"/>
            <a:ext cx="1148076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1760" y="3606480"/>
            <a:ext cx="1148076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3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511960" y="4699080"/>
            <a:ext cx="198108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543440" y="2653920"/>
            <a:ext cx="469908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4000"/>
          </a:bodyPr>
          <a:p>
            <a:pPr marL="4791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0820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137240" indent="-28188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46592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761760" y="723960"/>
            <a:ext cx="11480760" cy="8292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98000"/>
          </a:bodyPr>
          <a:p>
            <a:pPr marL="8211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2567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692720" indent="-56016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2128320" indent="-56016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2826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7272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21718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86000"/>
          </a:bodyPr>
          <a:p>
            <a:pPr marL="72072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1030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485360" indent="-4914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1867680" indent="-4914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26560" indent="-5310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239840" indent="-5310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653480" indent="-53136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2066760" indent="-53136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480040" indent="-5310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480040" indent="-531000">
              <a:spcBef>
                <a:spcPts val="104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480040" indent="-531000">
              <a:spcBef>
                <a:spcPts val="104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>
              <a:spcBef>
                <a:spcPts val="1049"/>
              </a:spcBef>
              <a:buClr>
                <a:srgbClr val="595650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>
              <a:spcBef>
                <a:spcPts val="1049"/>
              </a:spcBef>
              <a:buClr>
                <a:srgbClr val="595650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340760"/>
            <a:ext cx="11480760" cy="1574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1384200"/>
            <a:ext cx="5359320" cy="3340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34680" y="5155920"/>
            <a:ext cx="5359320" cy="332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74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384200" y="4876920"/>
            <a:ext cx="384804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511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62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213920" indent="-30096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56492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511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62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213920" indent="-30096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56492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837720"/>
            <a:ext cx="10464840" cy="364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Gender and Work</a:t>
            </a:r>
            <a:br>
              <a:rPr sz="8000"/>
            </a:b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+The history of patriarchy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Duwon Yoh &amp; Max Park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595650"/>
                </a:solidFill>
                <a:latin typeface="Baskerville"/>
              </a:rPr>
              <a:t>THANK YOU!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Work and Gender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Universally, greater prestige is given to male activities- regardless of what those activities are (Linton 1936; Rosaldo 1974)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It is not the work that provides the prestige, but the sex with which the work is associated.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Stereotypes of gender work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Boys are pilots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Girls are nurses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spcBef>
                <a:spcPts val="2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Boys are presidents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spcBef>
                <a:spcPts val="2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Girls keep houses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3080" y="304920"/>
            <a:ext cx="3751200" cy="35049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4191120" y="304920"/>
            <a:ext cx="6350040" cy="43178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1231920" y="3517920"/>
            <a:ext cx="5079960" cy="39117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5"/>
          <a:stretch/>
        </p:blipFill>
        <p:spPr>
          <a:xfrm>
            <a:off x="7340760" y="3848040"/>
            <a:ext cx="507996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Origins of Patriarchy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Patriarchy: Men dominating society. 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Border between the origins of patriarchy unclear.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Origins of Patriarchy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87000"/>
          </a:bodyPr>
          <a:p>
            <a:pPr marL="773280" indent="-496800"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One theory is men became dominant because since early human history, women had to nurse and take care of the child. 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773280" indent="-496800"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Around the world, women assumed tasks associated with the home and child care, while men took over hunting responsibilities.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773280" indent="-496800">
              <a:spcBef>
                <a:spcPts val="2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Result: Men took over society. Women became second-class citizens, subjects to men’s decisions.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Origins of Patriarchy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Because men dominated society, circular system of thought evolved: men are inherently superior.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Even today, patriarchy is always accompanied by cultural supports designed to justify male dominance. 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419040" y="393840"/>
            <a:ext cx="4496040" cy="44956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5283360" y="406440"/>
            <a:ext cx="5397480" cy="61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736560" y="304920"/>
            <a:ext cx="3809880" cy="36320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5219640" y="-571680"/>
            <a:ext cx="6391440" cy="91314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4"/>
          <a:stretch/>
        </p:blipFill>
        <p:spPr>
          <a:xfrm>
            <a:off x="736560" y="443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Duwon Yoh</cp:lastModifiedBy>
  <dcterms:modified xsi:type="dcterms:W3CDTF">2009-04-30T09:30:55Z</dcterms:modified>
  <cp:revision>1</cp:revision>
  <dc:subject/>
  <dc:title>Gender and Work +The history of patriarchy</dc:title>
</cp:coreProperties>
</file>